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F48DB53-1523-427E-B731-7DE01B213B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0148288-4175-44DE-8C2F-DAC3A7E027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E627CD0-9761-4064-B08C-F75360521D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228BF8D-A63F-4591-819E-86B2E8CE91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518A67F-267C-4FC8-9FF0-B2A3317613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F494CDF-4C4D-46EA-BD6C-C1B62963FF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791F44F-5F93-4B35-A960-F0AD4B30EF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070C333-C1DE-44B0-9F44-95BFC6D4A4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8648CFE-BAB1-4B45-B050-6012DDFFB9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25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9" descr="TI Logo wide ppt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ransparentnost.org.rs/" TargetMode="External"/><Relationship Id="rId2" Type="http://schemas.openxmlformats.org/officeDocument/2006/relationships/hyperlink" Target="http://www.transparentnost.org.rs/" TargetMode="External"/><Relationship Id="rId3" Type="http://schemas.openxmlformats.org/officeDocument/2006/relationships/hyperlink" Target="http://www.transparency.org/research/cpi/overview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38280" y="5943600"/>
            <a:ext cx="645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0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transparentnost.org.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http://www.transparency.org/research/cpi/overview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41520" y="2316240"/>
            <a:ext cx="633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TI Logo wide ppt"/>
          <p:cNvPicPr/>
          <p:nvPr/>
        </p:nvPicPr>
        <p:blipFill>
          <a:blip r:embed="rId4"/>
          <a:stretch/>
        </p:blipFill>
        <p:spPr>
          <a:xfrm>
            <a:off x="2843280" y="617400"/>
            <a:ext cx="373536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Bivše socijalističke zemlje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Evrope 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(prema ineksu)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stoni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loveni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ol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sk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Mađarsk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it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van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ruz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Češka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eton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lov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Hrvatsk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un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6761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M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doni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Crna Gora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ugar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sk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bija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Mold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i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ermen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lbani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el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orusij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usi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Ukr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in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09480" y="260280"/>
            <a:ext cx="82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PI 20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90720" y="1143000"/>
          <a:ext cx="6781680" cy="4992840"/>
        </p:xfrm>
        <a:graphic>
          <a:graphicData uri="http://schemas.openxmlformats.org/drawingml/2006/table">
            <a:tbl>
              <a:tblPr/>
              <a:tblGrid>
                <a:gridCol w="1207800"/>
                <a:gridCol w="2443320"/>
                <a:gridCol w="1203480"/>
                <a:gridCol w="1927080"/>
              </a:tblGrid>
              <a:tr h="154764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Ra</a:t>
                      </a:r>
                      <a:r>
                        <a:rPr b="1" i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ng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Zemlja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Skor 201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Broj istraživanja – CPI 20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520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7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Slovenija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6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Hrvatska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9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Makedonija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BiH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Crna G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66"/>
                          </a:solidFill>
                          <a:latin typeface="Calibri"/>
                          <a:ea typeface="Arial"/>
                        </a:rPr>
                        <a:t>80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44b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66"/>
                          </a:solidFill>
                          <a:latin typeface="Calibri"/>
                          <a:ea typeface="Arial"/>
                        </a:rPr>
                        <a:t>Srb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44b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66"/>
                          </a:solidFill>
                          <a:latin typeface="Calibri"/>
                          <a:ea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44b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66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44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Ocene za Srbiju po izvorima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za 20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i 20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godinu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21" name="Content Placeholder 3"/>
          <p:cNvGrpSpPr/>
          <p:nvPr/>
        </p:nvGrpSpPr>
        <p:grpSpPr>
          <a:xfrm>
            <a:off x="689040" y="1450800"/>
            <a:ext cx="7918560" cy="4645080"/>
            <a:chOff x="689040" y="1450800"/>
            <a:chExt cx="7918560" cy="4645080"/>
          </a:xfrm>
        </p:grpSpPr>
        <p:pic>
          <p:nvPicPr>
            <p:cNvPr id="122" name="Content Placeholder 3" descr=""/>
            <p:cNvPicPr/>
            <p:nvPr/>
          </p:nvPicPr>
          <p:blipFill>
            <a:blip r:embed="rId1"/>
            <a:stretch/>
          </p:blipFill>
          <p:spPr>
            <a:xfrm>
              <a:off x="689040" y="1450800"/>
              <a:ext cx="7918560" cy="46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62120" y="1523880"/>
              <a:ext cx="777240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CPI 201</a:t>
              </a:r>
              <a:r>
                <a:rPr b="1" lang="sr-Latn-RS" sz="20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                     CPI 201</a:t>
              </a:r>
              <a:r>
                <a:rPr b="1" lang="sr-Latn-RS" sz="20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BF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49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EIU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38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H  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47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GI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42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RS ICRG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31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     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WEF </a:t>
              </a:r>
              <a:r>
                <a:rPr b="1" lang="sr-Latn-R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                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35                                  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333399"/>
                  </a:solidFill>
                  <a:latin typeface="Arial"/>
                </a:rPr>
                <a:t>WJP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                       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</a:t>
              </a:r>
              <a:r>
                <a:rPr b="0" lang="sr-Latn-RS" sz="1800" spc="-1" strike="noStrike">
                  <a:solidFill>
                    <a:srgbClr val="333399"/>
                  </a:solidFill>
                  <a:latin typeface="Arial"/>
                </a:rPr>
                <a:t>35                                     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Broj istra</a:t>
              </a:r>
              <a:r>
                <a:rPr b="1" lang="sr-Latn-RS" sz="1800" spc="-1" strike="noStrike">
                  <a:solidFill>
                    <a:srgbClr val="333399"/>
                  </a:solidFill>
                  <a:latin typeface="Arial"/>
                </a:rPr>
                <a:t>ž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iv</a:t>
              </a:r>
              <a:r>
                <a:rPr b="1" lang="sr-Latn-RS" sz="18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nja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                 7                                    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Ocena                              </a:t>
              </a:r>
              <a:r>
                <a:rPr b="1" lang="sr-Latn-RS" sz="2000" spc="-1" strike="noStrike">
                  <a:solidFill>
                    <a:srgbClr val="333399"/>
                  </a:solidFill>
                  <a:latin typeface="Arial"/>
                </a:rPr>
                <a:t>39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                              </a:t>
              </a:r>
              <a:r>
                <a:rPr b="1" lang="sr-Latn-RS" sz="2000" spc="-1" strike="noStrike">
                  <a:solidFill>
                    <a:srgbClr val="333399"/>
                  </a:solidFill>
                  <a:latin typeface="Arial"/>
                </a:rPr>
                <a:t>40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oređen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40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mlje koje su bile iza nas, a sada su ispred 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2514600"/>
          <a:ext cx="3886200" cy="320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</a:tblGrid>
              <a:tr h="80028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992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Srb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  <a:tr h="80028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Bi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</a:tr>
              <a:tr h="79992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Liber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mlje koje su bile iste kao mi, a sada su ispred 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45080" y="2514600"/>
          <a:ext cx="4041720" cy="3200400"/>
        </p:xfrm>
        <a:graphic>
          <a:graphicData uri="http://schemas.openxmlformats.org/drawingml/2006/table">
            <a:tbl>
              <a:tblPr/>
              <a:tblGrid>
                <a:gridCol w="1347840"/>
                <a:gridCol w="1346040"/>
                <a:gridCol w="1347840"/>
              </a:tblGrid>
              <a:tr h="80028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992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Srb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Šri Lan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Bugar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oređen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40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mlje koje su bile iste kao mi, a sada su iza 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2514600"/>
          <a:ext cx="3886200" cy="320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</a:tblGrid>
              <a:tr h="80028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992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Srb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  <a:tr h="80028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Pa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.</a:t>
                      </a: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</a:tr>
              <a:tr h="79992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Jamaj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.</a:t>
                      </a: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mlje koje su bile ispred nas a sada su iza 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45080" y="2400480"/>
          <a:ext cx="4041720" cy="3314520"/>
        </p:xfrm>
        <a:graphic>
          <a:graphicData uri="http://schemas.openxmlformats.org/drawingml/2006/table">
            <a:tbl>
              <a:tblPr/>
              <a:tblGrid>
                <a:gridCol w="1347840"/>
                <a:gridCol w="1346040"/>
                <a:gridCol w="1347840"/>
              </a:tblGrid>
              <a:tr h="79920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CPI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9560"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Srb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80640" rIns="80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0640" marR="80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9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Marok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Taj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333399"/>
                          </a:solidFill>
                          <a:latin typeface="Calibri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0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Reakcije na dosadašnja rangira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Podaci iz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-te: suočavanje sa katastrofalnom slikom o Srb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03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 Očekivan veći pomak na listi, ali se percepcija sporo m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 Napravljen novi pomak – približavanje realnom stanju stv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200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i 2007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 Zadržan minimalan trend rasta – nema radikalnih promena koje bi dovele do brze promene percepcije korup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gnacija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 – prvi put nema ni minimalnog napretka, druge zemlje nas sustižu ili prestiž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9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i="1" lang="sr-Latn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Simboličan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10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Stagnacija i očekivanje da će unapređenje zakonskog okvira doneti napredak u buduć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011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: pad skora i nazadovanje na listi – u skladu sa utiskom domaćih ispitanika o odsustvu napr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12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iste ocene kao i prethodne god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Rezultati CPI i Srbija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Zemlje mogu da ignorišu rezultate CPI samo na svoju štetu – čak i ako ne odražava u potpunosti realno stanje stvari, CPI je dobar pokazatelj onoga šta drugi misle o nama – nema mesta zadovoljstv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Utisak o visokoj korumpiranosti imaju i građani Srbije, što proizlazi iz rezultata istraživanja koja se vrše na nacionalnom uzorku (npr. Globalni barometar korupci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Nalazi istraživanja javnog mnenja ne pokazuju značajne promene – percepcija korupcije je slična godinama; podaci o iskustvu sa korupcijom dugoročno pokazuju blagi pad nivoa „sitne korupcije“ u poslednjih </a:t>
            </a:r>
            <a:r>
              <a:rPr b="1" lang="sr-Latn-RS" sz="1800" spc="-1" strike="noStrike">
                <a:solidFill>
                  <a:srgbClr val="333399"/>
                </a:solidFill>
                <a:latin typeface="Arial"/>
              </a:rPr>
              <a:t>šest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 g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Teme za razmišljan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Pitanje koje se nužno javlja: Da li je održavanje visoke percepcije korupcije posledica veće pažnje javnosti i otvorenijeg razmatranja problema ili se nivo korupcije zaista povećao?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tvorenije razmatranje problema, čak i kada vodi porastu percepcije korupcije, korisno je na duži rok, jer je preduslov da se borba protiv korupcije učini uspešnij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 li je moguće uticati na smanjenje percepcije korupcije izolovanim antikorupcijskim merama ili kampanjama? U najvećem broju slučajeva ne, zbog prirode istraživanja. Osim toga, prioritet treba da bude sprečavanje, otkrivanje i kažnjavanje aktuelne korupcije a ne promena utiska o njoj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avni problemi Srb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6212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ršenje usvojenih antikorupcijskih zakona i narušavanje pravne sigurnosti usvajanjem kontradiktornih ili nejasnih odred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dovoljni kapaciteti organa koji vrše nadzor i kontrolu nad primenom zakona; diskreciona ovlašćenja u određivanju predmeta prov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ma učenja na osnovu otkrivenih slučajeva korupcije i otkrivenih obrazaca koruptivnog ponaš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ninstitucionalna moć političkih stranaka koji se odražava na rad čitavog javnog sek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dovoljno transparentan proces donošenja odluka, nemogućnost građana da utiču na njihov sadržaj i neuređeno lob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potrebne procedure i državne intervencije koje povećavaju broj situacija u kojima do korupcije može da dođ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cc3300"/>
                </a:solidFill>
                <a:latin typeface="Arial"/>
              </a:rPr>
              <a:t>Prioriteti Srbije za borbu protiv korupc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Borba protiv korupcije može biti uspešna jedino ako je organizovana na sistemski način, načela pravne države, koordinaciju rada pojedinih institucija uz striktno poštovanje njihovih ustavnih i zakonskih nadležnost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ća javnost rada državnih organa, smanjenje regulatornih i finansijskih intervencija države, javne nabavke, jačanje uloge nezavisnih državnih organa, javnost medijskog vlasništva, nezavisno, efikasno i odgovorno pravosuđe, zaštita uzbunjivača i svedoka korupcije, proaktivni pristup u istraživanju korupcije, mere za kontrolu imovine javnih funkcionera i službenika, striktna kontrola tačnosti i potpunosti izveštaja o finansiranju kampanja i političkih stranaka, rešavanje svih slučajeva u kojima se sumnjalo u korupciju iz ranijih go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5181480" y="765000"/>
            <a:ext cx="3962160" cy="4876920"/>
            <a:chOff x="5181480" y="765000"/>
            <a:chExt cx="3962160" cy="4876920"/>
          </a:xfrm>
        </p:grpSpPr>
        <p:pic>
          <p:nvPicPr>
            <p:cNvPr id="91" name="Picture 3" descr="TI KENYA_KUBI_JAN2002_"/>
            <p:cNvPicPr/>
            <p:nvPr/>
          </p:nvPicPr>
          <p:blipFill>
            <a:blip r:embed="rId1"/>
            <a:stretch/>
          </p:blipFill>
          <p:spPr>
            <a:xfrm>
              <a:off x="5181480" y="76500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4"/>
            <p:cNvSpPr/>
            <p:nvPr/>
          </p:nvSpPr>
          <p:spPr>
            <a:xfrm>
              <a:off x="5437440" y="76500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49690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2640" indent="-2426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333399"/>
                </a:solidFill>
                <a:latin typeface="Arial"/>
              </a:rPr>
              <a:t>Meri stepen u ko</a:t>
            </a: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jem se opaža korumpiranost 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u javnom sektoru (korumpiranosti državnih funkcionera i javnih službenika)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Indeks se sačinjava na osnovu 1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 različitih istraživanja i studija, koj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 ispituju mišljenj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 stručnjaka, predstavnika institucija i poslovnih ljud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U 2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rangirano je ukupno 1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76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država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/teritorij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sedam manj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 odnosu na 20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26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ndeks percepcije korupcije za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CPI 20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 Map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PI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- Najbolji i naj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ji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Rectangle 266"/>
          <p:cNvSpPr/>
          <p:nvPr/>
        </p:nvSpPr>
        <p:spPr>
          <a:xfrm>
            <a:off x="1500120" y="380988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8"/>
          <p:cNvSpPr/>
          <p:nvPr/>
        </p:nvSpPr>
        <p:spPr>
          <a:xfrm>
            <a:off x="1214280" y="928800"/>
            <a:ext cx="678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Zemlje percipirane kao najmanje korumpir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71600" y="4267080"/>
          <a:ext cx="6629400" cy="2293920"/>
        </p:xfrm>
        <a:graphic>
          <a:graphicData uri="http://schemas.openxmlformats.org/drawingml/2006/table">
            <a:tbl>
              <a:tblPr/>
              <a:tblGrid>
                <a:gridCol w="888840"/>
                <a:gridCol w="2065320"/>
                <a:gridCol w="1974960"/>
                <a:gridCol w="1700280"/>
              </a:tblGrid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n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eml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r (0-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. istraživ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5400000"/>
                    </a:gradFill>
                  </a:tcPr>
                </a:tc>
              </a:tr>
              <a:tr h="622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u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anist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verna Kor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omali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371600" y="1447920"/>
          <a:ext cx="6629400" cy="2287440"/>
        </p:xfrm>
        <a:graphic>
          <a:graphicData uri="http://schemas.openxmlformats.org/drawingml/2006/table">
            <a:tbl>
              <a:tblPr/>
              <a:tblGrid>
                <a:gridCol w="781200"/>
                <a:gridCol w="2184120"/>
                <a:gridCol w="2076480"/>
                <a:gridCol w="1587600"/>
              </a:tblGrid>
              <a:tr h="404640"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eml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kor (0-1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. istraživ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1478160">
                <a:tc>
                  <a:txBody>
                    <a:bodyPr lIns="55440" rIns="55440" tIns="27720" bIns="2772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440" marR="5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an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in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vi Z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55440" rIns="55440" tIns="27720" bIns="2772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Šved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Da se unapredi komparativno razumevanje nivoa korup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Da ponudi presek viđenja donosilaca odluka koje utiču na trgovinu i investi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333399"/>
                </a:solidFill>
                <a:latin typeface="Arial"/>
              </a:rPr>
              <a:t>CPI </a:t>
            </a: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je “agregatno istraživanje” (istraživanje grupe istraživanja), osmišljeno kako bi se prevazišli nedostaci svakog pojedinačnog istraživanja o korupcij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333399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Unapr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đenje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metodolog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ije CPI počev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od 2012. godin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520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CPI je istraživanje koje se odvija iz godine u godinu i pruža podatke koji se mogu kontinuirano pratiti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inimum 3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istraživanja po zemlji/teritoriji da bi bila uvršćena na li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raživanj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moraju biti objavljena u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prethod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h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 godi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 d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Zemlje se boduju na skali od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100 (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veoma ‘čiste’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 0 (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veoma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korumpirane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, što omogućava detaljnije razvrstavanje (manji broj zemalja koje dele isti s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Ispituje se percepcija (opažanje) a ne činjenice (npr. broj osuda, broj tekstova u medij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Korupcija određena kao “zloupotreba javnih ovlašćenja za privatnu korist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AND_~1A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Mogućnost poređe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Indeks predstavlja presek viđenja poslovnih ljudi i analitičara prilika u pojedinim zemljama i ne odražava nužno trendove za pojedine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Skor je relevantniji od mesta na tabeli (zato što se ponekada menja broj država/teritorija koje su uključ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Promene indeksa kod pojedinih država mogu biti rezultat promene uzorka – istraživanja koja su uzeta u obzir pri sačinjavanju indek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led metodoloških promena, mogućnost poređenja CPI 2012 sa ranijim godinama je ograničena: može se porediti mesto na listi (uzimajući u obzir promene broja zemalja u uzorku), poređenje sa kretanjem drugih zemalja ili vršiti poređenje rezultata po pojedinim istraživanjima; nije metodološki ispravno automatski množiti skor iz prethodnih godina sa 10 ili deliti sadašnji sa 1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AND_~1A"/>
          <p:cNvPicPr/>
          <p:nvPr/>
        </p:nvPicPr>
        <p:blipFill>
          <a:blip r:embed="rId1"/>
          <a:stretch/>
        </p:blipFill>
        <p:spPr>
          <a:xfrm>
            <a:off x="632448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Nedostaci i prednost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Nedosta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Indeks ne odražava stepen napora uloženih u borbi protiv korupcije ili postignutih rezultata u borbi protiv korupcije, ukoliko oni nisu doveli do promena koje se opažaju u pra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"/>
              </a:rPr>
              <a:t>Zemlje u razvoju mogu biti prikazane u lošijem svetlu usled pristrasnosti i predubeđenja inostranih posmatrača (zato postoje i druga sredstva za merenje korupcije, npr. Indeks davalaca m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Pred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I druga sredstva za procenu korupcije dovode do sličnih rezultata kao i C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CPI je dobra šansa da se unapredi javna rasprava o koru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CPI je dobar podsticaj za sprovođenje daljih an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CPI obuhvata gotovo sve države s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Metodološke napomene za Srbiju u CPI 20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bija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je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obuhvaćena u 7 istraživanja koja su uzeta u obzir pri sačinjavanju indeksa, pri čemu je 6 izvora isto kao i u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Posmatrana teritorija Srbije bez Kosova i Metohije (istraživanja na osnovu kojih se sačinjava CPI se posebno rade i za ovu teritoriju i odražavaju percepciju o korumpiranosti tamošnjih javnih službi, tako da je Kosovo posebno rangirano na ovoj lis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333399"/>
                </a:solidFill>
                <a:latin typeface="Arial"/>
              </a:rPr>
              <a:t>Istraživanja su obavljena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kom 2011. i prve polovine 2012. godin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a objavljena u periodu oktobar 2011. - novembar 2012.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Rangiranje po pojedinim istraživanjima kreće se o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31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 do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49. 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Standardna devijacija je u prihvatljivim granicama (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.6</a:t>
            </a:r>
            <a:r>
              <a:rPr b="0" lang="sr-Latn-CS" sz="1600" spc="-1" strike="noStrike">
                <a:solidFill>
                  <a:srgbClr val="333399"/>
                </a:solidFill>
                <a:latin typeface="Arial"/>
              </a:rPr>
              <a:t>) i omogućava visok stepen pouzdan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Izvor podataka u inicijalnim istraživanjima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elevantnim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91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193760"/>
          <a:ext cx="8177400" cy="5253120"/>
        </p:xfrm>
        <a:graphic>
          <a:graphicData uri="http://schemas.openxmlformats.org/drawingml/2006/table">
            <a:tbl>
              <a:tblPr/>
              <a:tblGrid>
                <a:gridCol w="381240"/>
                <a:gridCol w="3962160"/>
                <a:gridCol w="38340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v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zo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dom House, Nations in Transi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ažanja nerezidenat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pitanici uglavnom potiču iz razvijenih zemalj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telsmann Foundatio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U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onomist Intelligence Uni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 Insigh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untry Risk Ratin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S ICRG (Political Risk Services International Country Risk Gui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čnjaci angažovani od strane bank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 institucij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 of the World Economic Forum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Executive Opinion Surve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ažanja rezidenat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pitanici su uglavnom lokalni stručnjaci, lokalni poslovni ljudi i multinacionalne fir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JP (World Justice Project Rule of Law Inde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kalni stručnjaci  i opsta populaci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User</cp:lastModifiedBy>
  <cp:lastPrinted>2001-02-20T16:28:36Z</cp:lastPrinted>
  <dcterms:modified xsi:type="dcterms:W3CDTF">2014-03-27T18:40:00Z</dcterms:modified>
  <cp:revision>118</cp:revision>
  <dc:subject/>
  <dc:title>Slide 1</dc:title>
</cp:coreProperties>
</file>